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EEC-010C-4D6A-A4CE-DD4EE310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4CFE-D46C-497F-AC7D-56DA5A0D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84AA1-742B-4214-B82E-1B97DC9A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C21BD-6073-4249-9E18-361B97FC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06B64-0F62-48EC-8960-714EEA42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87189-5196-40BB-9886-0DFD4612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62E55-90E6-4128-B160-4D51CF71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86A10-4531-4BC0-ABDB-8366107F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21752-CA25-4A54-93E5-BE8E949B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33D6B-B55E-4F62-9E21-65FA19B7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457F1-FE70-4749-9B83-51FBB0AC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FA66A-4E3C-4B0A-9C0A-D04EA502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D99-3C4C-43A4-A082-FD688ADF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CD5DC-CEC0-448B-A55C-9927B852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33E80-BB9B-4C9C-91C6-2A2778D1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3D578-DEE3-436D-A247-3E1A4F0F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25972-82EC-4B5D-AD5C-3B31D22B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45346-6A31-4D33-88C6-ECDC1D28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9C79D-4471-4A38-8B2D-769EADE9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424CB-5A44-48D6-BAAE-A202B19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D4DCD-26A9-43C1-9D48-B097796B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20C31-15CF-44C3-B5C6-19CFBFD2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0C821-02EF-4A58-93C4-887B2720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B02-7838-4946-BB26-78BD0826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BAA66-A60A-471F-BA47-ED5B5118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CE494-35E5-4E59-8166-30F25339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14D37-1DA6-4FCF-BDBE-0DED0573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4A365-203F-4E0C-8479-69E66C53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CC1B1-91B5-4850-9A6B-4AC46176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F16FD-9E0F-4FF2-BE4E-E46B4848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EB6BC-2459-4981-A38C-6D633F06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9DCCD-6FFD-48BD-B567-ACA408A1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60B15-C2D1-4EA6-9EFC-6982A396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CB6B2-99A9-40C9-9AF5-CF0C2681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0FC1-DA7E-44B0-BE6E-52F6646D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EA723-EF86-4F26-A71A-F8CA7DBE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268D5-95DF-42AB-8E50-76B5968A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7266C-325F-4F4F-8440-2753ED25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A808C-3A21-42EB-BD99-76BE4488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4C8F7-F7C7-4E46-8890-1191FFB3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7D0DC-2D13-49FA-8005-F77D5304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FE62F-21E1-4264-B95A-39BF7E5F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04E17-8AFD-47FC-9C71-B666A320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AEBD5-2DB9-428C-9AB4-451EF47F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943DB-0993-4169-9E27-98B476B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2DCA-8373-4B4E-90FA-511FA3B8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F6DD0-AA87-4776-BA58-FD6251C4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30ADF-47FE-48E2-8F30-48EC8318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89946-505D-478C-914E-1D2E68BD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D99CA-1400-4EAC-998D-C59F954C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B9D7A-3E4B-43F2-954D-4EE8D76E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1FE0A-9E04-4CBC-BAB6-96268E94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C7F52-855D-4A78-A626-84F0AEE2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3D7AD-0950-4A11-9D80-9B13AA39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74439-6335-4A02-BD38-6E71523A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CC414-37F5-425A-958F-497293B8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0FCF-DBB0-4D2C-9562-10DD0573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B6498-254C-47B3-B7C1-1A39A989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E1F9C-3FE7-421E-8669-5D11117F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98DD8-3099-45D3-991F-F73B2038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51394-3DE5-444F-8EBD-54896A2A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C0DF5-0C15-4083-AB66-B3526511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8F36F-B388-45E7-8D51-B1D5EF6B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AFB00-B262-4D1F-B007-E2922AEF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89BC8-96AB-42CE-9E4D-9C3F6F7E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AC3E7-0A2D-4A30-825D-F6DDCABF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7C504-4DFC-477C-A412-87D01A3E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0433-04BB-470D-AA8B-82AB60F5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77664-A911-4575-B3BF-1E1E091E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E8934-BAF1-4EF3-9230-4E1D6705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B9A39-B535-44C7-9F4C-EB236F84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F2C6F-C342-44FC-AAC0-49C33E43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19AB3-FCEF-41E2-A7F1-9C791BA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491AD-0002-4E39-97F6-30F4C852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B0830-A952-4BF9-8A3D-67D9523F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4A4D4-563D-45FF-A6BE-0877857E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B7631-E705-4BA8-BDE5-8BC10237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2E07FC-08BA-4FFF-976E-9936D424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3C55-9C6D-48A5-B55E-A433292C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00B6C-0395-4947-BDFD-666BE16C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258F1-CD42-4FC2-BFA0-64F39BDA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C2A25-AE6A-4522-A984-55D37612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62012-B72D-40F3-8FD7-F5C3B470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D717C-739E-4E74-951E-C8ED98F1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E8DB8-8369-4B62-9AB9-AC032F2E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12E95-7018-4439-B158-872EA769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60B6AF-FD72-422B-A76A-056AFEA0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94272-0D8A-4FE5-BAA7-7FBE0B53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83BFC-D8B4-44C1-87B5-4547B62C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23CC-4AB8-4061-B4FC-9635FA4D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27FD4-AC42-4214-8CB8-5A402031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FA859-A030-4AF1-914C-915734F0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AF970D-F14C-4E27-B489-ABFB406F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E04AC-B747-4C2D-8C39-3140AE5A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4DFE6-F2E8-41ED-A10F-F5336141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DACD5-C4D9-4300-9464-9EB41024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762A4-1F15-42B0-85AC-463F80A9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8B16D-A259-45D4-8B77-1BA6FDB0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80DB2-D124-4AFB-8263-890ECF66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80C5A-999B-40F1-A0DF-689C07AF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06C0-0E16-4736-B7FE-10FBA054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6F58B-7EB5-4957-A504-71ACA4CD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02B226-E635-43FF-81CF-B475F6EB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A291D-E4F6-48DF-A337-CC2E1085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8AA16-F742-458D-B473-E979A166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6B1FF3-E983-4837-BE03-46DBCD56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E5E056-D7F1-4A05-9CD1-6C2098DD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5F2D5-3275-4C1F-80FB-C443CF0E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AE58E-B182-4914-9D90-909C5C1D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B3D2D-6793-4905-B663-8856C445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8622A-E52B-4774-B21C-1AE289D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3B8-7451-493A-BD24-5B2546CC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DD05-F156-4BA3-99B3-03D40A87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087E7-0712-4959-A443-6E348E3A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7995D-497E-47DC-9290-0B7B10D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AB2FC-57DB-4C61-A205-EB59EBF9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BD7D0-32B8-4761-B7E2-B53205E9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A38060-A6F0-44AC-B922-67928D87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47358-B327-41B5-9DA5-D922A6CE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949C4-0218-4D28-A3A7-1898EA4C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CF370-4EF9-4118-BF36-800CF41E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439F6C-DEF8-4666-B710-5FE857A1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5242C-7C2D-4F13-9505-6B92E7AD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91EC-7E29-45F7-B196-734740D0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904A3A-A060-41A7-8D2C-5B93756A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19860-86E4-40CC-84F9-FDB2A453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4D047-BEEE-4A31-88F0-0676939F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B49337-1085-41A4-990A-5A6B54E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87EE73-CD6D-4224-8F99-58EC1E6C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633099-B30A-42F6-8591-E7F89775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FE7FDB-2B12-4735-9A87-3EBA164E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B6DFB0-43C7-42B0-8374-363D8F31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E4EB2A-DC2A-4C2A-BA3E-4B335538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865449-AE63-45C2-8CF7-BC1E536B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6CCD-CC05-484D-9ED4-FC94604F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DF102-0555-4A73-B01F-FF56AC6F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00CA05-9A7F-4BE9-8E09-340B6AD8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AF186C-F54F-4584-AF2A-263F7939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2609E-790F-4AA4-8FB0-A0E71B51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B97725-D8DB-4EB7-B857-242B05D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C4D6FB-CF8D-47B3-821A-49BF1FD1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14580A-0817-4C3C-BC9E-D47303CA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C23A7F-04FA-447D-988C-0500002A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A3F41-69F6-4B32-9760-6B189000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A370E5-2D5E-43EF-AD03-B643F079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ADD9-DFB8-4FE6-9DBA-C123F3CD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CBEF42-B878-4216-BD32-FAEA6A76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B4965-A0FF-4EF0-A010-D922F3DE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8B9A8C-7CF3-40C6-AB20-3BC11BF9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AE3AF9-4D35-4603-B4B4-CC270AC9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FF0D15-4612-4686-B48C-0ED60F7F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728DFD-6317-45BD-B9AB-C7FF2A00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CDC4A-5945-407E-BFFB-32B6D92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0A0CFA-B926-4ED3-A75B-B3F10F64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9CEF01-C552-403F-B48D-A1EF80AE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8FD5E8-4EEF-4662-AABF-B9F3D002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043E-A909-433E-B3FD-FCDDD8B9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041A8-22A0-4FCB-873A-4F5E276A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1909E5-08E1-4AEC-9A27-B56E51E6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33FB5-C87B-46A1-A3F4-F8DFC98D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37113-7B7F-4BC1-B76E-FCBA2FAC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17DB2-BF8B-497D-91C4-2A932FB0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4CEA4-5768-4E9B-988C-71FB02C8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2E22F7-C643-48AF-B9B3-13BFC88C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D448A4-21BE-4D06-92F7-B6C721C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E44AAB-4D1D-493F-8C50-BA439D14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EDB35-00D3-4A26-B737-FEEF708D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7BE2-A07D-4B25-8812-739630C6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5604FE-525E-4299-8208-6C222845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E0318D-C2FE-418C-A531-6B2142EF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A32C53-BF75-4D96-AAA0-FFB0694F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3D3CBD-C537-4103-9EB1-29C50607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BDB3F8-E584-4B26-82DB-F022DAEC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D5405C-4857-4ED2-BE97-00BF4406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BB7367-8B47-4524-80CB-91E562BA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093DC0-4FBE-44DD-957A-5C06144E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41F056-7A13-4485-AF37-1C490F14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930A8E-6E6E-4C75-B6EC-7C5DC8A3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CF8C-D1CA-40B5-A6EF-6C5330D6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E3A84C-BCC0-41CF-928D-CA526DF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89F8D1-6031-45B4-A8D7-7B2D20B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38842A-5DDB-4D95-AD2D-47E1FE7E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216F64-6A1D-4D07-A014-69890D86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BBF4E4-2A38-4F68-960E-0649616E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91DC7-BEA4-4934-900D-1FB72CE4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D5331-2A62-4EBF-9F2D-E3DE566F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CEE866-E2F8-4495-8076-D841E79D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5134E7-7E41-4892-BF1E-423B0FE6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5AB0F7-A7F2-411C-9640-F9BD141A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F355-4245-48A7-A9EC-FEE47FC0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522728-F49A-410F-93FE-D3C3E540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6FECC0-1E4A-49A9-BFAE-CA26BDAA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B916BF-CA15-4AD1-B3E5-5A5C300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B4033D-B166-46E0-9593-866F7F17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FB4339-38F3-48F5-94F3-49CC097E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AAE74D-3127-4B7D-A8ED-CF65356B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6784FF-06A4-46CC-993D-D902A280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8B4302-7F18-48C5-A3AF-2596DECA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C36F53-3B3C-41A4-B155-4F754A8F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220808-ED14-485F-808E-0265F266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6055-A584-4F34-BC33-44ABE14A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46358B-AB7D-4773-9AB0-450DB049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A3D202-E667-4483-A39A-87E1EFC4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EC28AF-E7A2-4DD3-9EF6-40B46DFE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B0E068-8B0B-49B7-8678-243FF71A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221748-7D68-445B-A2A2-CFC864FA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AA4F95-5EAB-48EF-B0CA-7A5AE921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4F10B0-674B-40FE-B5E9-72D0F70D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0A8C29-7D04-4520-A016-2E0766F6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5979BF-DCCB-489F-B996-D3D79A6E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48FFD0-E64D-4310-800B-959E55AF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6C90-D87D-436C-98E7-063D2C47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E4CF89-E430-4D5F-AC33-8EF3B7D4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7FBFF1-1628-4145-9BE9-256E9AF0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A03F37-6C78-4F91-A12A-7CB8DE9C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B30449-6C10-4F01-8FCA-314E0E2D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812E94-44DB-4A77-A1BC-AB5DB425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A0CD57-9CD7-4486-AC01-89B5ED12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1F2AB6-2AEC-429A-8FF6-685514DE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56DD4D-F42B-47F4-9E1C-D13DC839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83421A-BB09-4015-9FA3-4B9E0C25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EBDC6C-3E3A-450D-BF2D-6E66F479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F17-4E5A-423E-BD15-F6CA6FF5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98DC-4885-41C2-B9D0-A6628B96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85BBBF-D3EE-4E6A-A814-3F0072BC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BCE562-08B9-49BF-886D-E5F6DC0F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2D158C-D9BE-4386-BADA-6D27860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E35865-5945-4EC9-BED5-FEBDE024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6812BF-9EE0-40B9-A939-F7C26B24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399EE9-4A8B-4144-936A-738DEB35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8DF4BA-A239-4992-AD0C-53F9D821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A40EA4-BE7C-4A02-833C-1F3FB6B9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7BD26B-44FE-4113-88E6-D745D2AE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296FC4-773E-4AEF-885B-6F4AC7A4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D4286-FE2E-4A38-9AA3-AAF6376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EA93F8-0D32-409E-9381-E1E31E61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870C65-FC59-4552-8B81-8BD5A4C9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95E874-B4B3-4EC9-B77D-63F6C9F5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907F09-180D-49A3-ABEC-E99EC376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0990C1-4956-4A50-83ED-47E30A3E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6BB5F5-14DD-4A3E-8DA7-65FBEB90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26D647-F8FB-4F66-AD24-64377B41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CFC9B3-FF8E-487C-B485-F62CB838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57CEE6-A45F-4BB5-BB13-6B4534CA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97FE45-1362-44ED-AAB5-06F6ED6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D20D-A602-443C-A261-A1159298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FC1B39-2B41-44CD-ACB5-CA5B02E2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FDB17B-6581-481E-8BE3-99431D93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3E6230-3FB9-49D2-AFE6-4FB83B45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7D57FB-5BDC-4151-9F3F-5F9BEC28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54A71B-9995-4BCE-B422-EF0C7631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E2637C-4C2A-48D4-93D8-CC858E6C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751F8A-16AF-44B8-94D0-E4FE33C4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EE7387-9509-42D1-B890-41FB4409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4971EB-59FF-4A37-97C1-40B4CDEE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00AEF5-A104-40F0-AC1B-9A38425B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0B2C-6A53-438F-A1EA-04D9D544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1932B5-9500-4AB0-899E-0A72FCB8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308FAC-6723-436E-B27D-73807BBC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B56685-A7A1-422B-88B5-67152B6D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E288FF-0450-4F5C-ACA7-E7C1D3F0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889999-14DB-4A66-B253-9337A21A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5144E0-365D-4210-AC95-B5EB85AD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AE8B40-4825-4BA9-BD65-5592BF25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79EB76-FD99-40EF-8686-1E3E6AA2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D0259E-4AA8-4B71-AB89-F9EDD0B3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AD111E-5A51-48A7-AEF8-80B734DD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3BD7-A5F0-4F1A-92AC-8B60F3CA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C57967-ADD5-45E2-9925-0C1224B4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B84D12-A384-4AC0-8531-8A5446AF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06BC8E-6B28-4552-9E1D-B5FFF259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AEECA2-A172-4D38-83A2-315F3CE3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880589-A6EB-4225-BEA2-BBC0E80B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074060-95A8-4FDE-AFAA-CF23A9D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1B9C8E-3681-4FB1-B5FD-12269037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F62622-C38F-44ED-BDA6-CA66BDB8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3C5C31-6964-43A8-863B-AEDA86AB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072EE0-F176-4C44-BB4B-EFAC7693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94C3-EB8D-4610-A053-D51442E7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FABFF4-6E93-4B48-9F6E-9F4BE456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C8EDBC-D3D0-4C7E-9924-06FD993A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6D5468-E8F4-4E7A-95B5-42F1181D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AB2C9A-1E3F-4B08-A784-995C51DF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31E45E-D0B1-4B29-85F9-731D41A1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0656D6-5B8B-4FB4-B09A-AB644604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EB3312-8BBD-4B17-A92D-C7F0752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A9AB88-8F7F-4696-8BD9-BFC0351F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CD2646-227C-4E52-8311-CFCBC7AA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6A1311-E605-4B58-A37E-1CC36348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5683-75E6-4474-91BD-6BAB9C00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814428-6224-4568-B06D-F4CCD793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CD4D35-F471-452F-843B-9FF66C8D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DA7F00-A587-4278-B8F2-70DAA62B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C7EBA0-E124-4BF2-A35A-E3806297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69D77D-6080-40E2-AE04-54892D48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239F0E-F047-424A-A6AF-FDE9BE13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57EBF9-DBBD-466E-B375-DBC1DCD1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FE2180-D78C-4677-91BE-E2572A6A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712DAE-EA7D-4CB3-9D36-8D49B9A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6E6EFF-8E6A-4838-8E90-1EEA0271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F1E8-66D4-4ECA-81C3-D5897B31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078EAF-50ED-437E-85BA-CE4C9880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36DE31-73C9-4062-BDE6-DAEF452C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760D5F-BE86-4F0E-9D8D-0479110C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F3B5-A4C9-497D-B70D-3069FD81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301B-DBB0-445D-AE29-33B39D8B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122-DCE1-4274-B695-3EAE86FC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E3CFE-32A9-481C-929E-30CC14F3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4A8E-5850-492E-9699-EC759D17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A2914-2939-4DF4-945E-F5E0531F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0C080-3C96-4F9F-B768-1CDC4020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DB30B-B5AE-465C-9353-325FBAA9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AAABF-6C7C-4204-AEA7-26392E53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7BFA-BE1B-4D47-AF67-ADAD4992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6BAD5-866E-4704-9678-E9592FCE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EAC39-B817-4961-AB2C-BDFEF9FC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7899E-B8DF-4B8B-9ABD-3BC6EEE1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CC2-C5D2-427C-B923-CA939581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3251A-4CD2-468A-B50C-C9BC4F9F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977A6-421D-4C4F-85C8-5E66C8B6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08A44-FFC7-486E-ABB6-3687889A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CD90B-A2BD-4F41-AFEC-BF926489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F2C52-89D6-45FD-8128-4A04400C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9E2D7-C37E-4222-8C69-341CB8F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612D-DBA3-4A23-AFC1-289B8706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D0FB8-D66A-4046-BD21-AE2419AF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41E7A-9D98-4350-B884-CAEE5197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B58C1-8107-4FDA-9EB6-74E66119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1DC-8B84-490F-8AAA-8B98C4B3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2C048-47BE-4E20-92E4-F93D6170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5F488-7BD5-49BF-90A4-A53433CC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4D62B-575D-4804-925F-BC573D67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157B-43BC-48DA-8CA7-14920540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A50A-460E-49FA-94F1-4723474F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3C3A9-CA52-44A1-B049-7FEC8B04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D778A-8EFF-4F2A-A64A-D127F7CE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B107C-58F4-4C4B-ADCC-CA83DD7F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81BA7-614C-4366-AA20-04540E78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051AE-E3D5-4E24-A9A0-71E11067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E42-9423-4840-9C0E-03C0EA07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38FFA-8DCA-4745-B30B-C344E7B7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27513-477F-4872-8015-607FB87B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B894E-56A8-40DB-9FDF-AD9BA7C5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148A3-B676-43DA-AF2E-D73CAA9E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CE4BF-1F8C-447E-91F6-E2C53EED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127B6-6967-4E7D-BC53-3A495282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C4907-E320-43CC-80CB-54C53082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9C633-6246-4BD0-939A-56CA3B7A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28A5F-34E8-4758-9652-B38FDC0B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25BA0-D37B-43D6-94E9-4DC53F14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BCE-0554-43F9-AFFD-753D9EE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DA843-3E4E-442D-B9D1-6D515859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A80CF-8CA6-486F-967E-46574511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D234A-8774-435B-842C-3F01487A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6ADC-12EC-4D9B-8C8F-F97681F2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14CD-BB7C-4F80-AE2B-63F68CFF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9FC46-6955-42D0-8ED5-48642D55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FE753-6D12-4B73-8052-8131C9CE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FA0D5-F018-4B9F-92E8-031E2790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A8383-C1CD-4542-9E30-8FD53B02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A2FF3-1589-4FB0-9F5A-F3A444AC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7AA-0934-43AE-9192-3BE97B8B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6F1FF-6EDE-40A3-8011-CCE562BF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AB033-2B02-4DB9-A347-75811623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7AE6F-CCDB-42F3-B723-89F0C44D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BA9F4-279A-4D82-B74F-F0AB1F55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D1876-FA28-4000-8CC5-EF07EA85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DEB3D-E93C-48D0-B3C9-0DD7D988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64F9F-0536-49E7-81E8-FE44C936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BDFF7-B783-425C-BC41-6AF46353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56CA9-020C-4394-8E4A-8678A1CC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74A61-A8E3-4304-B52A-3F8D37E1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F4B7-07B5-4641-B418-931CC9C6F9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ACD-450A-4660-8D67-EEBE1AF345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FF97-FA51-4422-BCD0-4CEF7C6FAD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DFC2-8698-4161-9E3E-BFAD5AC353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F224-03A0-45E5-8CDA-1BA9ED323F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05E2-9CAC-448E-A8A8-32448A059C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95CC-AB3C-4E84-B6B4-19AE723046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D445-D7DA-47E5-8532-C86DA8569F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DB3D-2837-42A4-8EE0-0DA2E5ACD2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3302-4422-4FA9-8EA4-C3B144505D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D174-23C3-4654-84E0-70F6A1D11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6837-F767-46FC-9ED0-0DE5679C6D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D108-42BF-460D-A388-F1F41F1D81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540F-23AD-422B-8F92-A93D61C696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4D5F-4CDB-4031-8DB1-0D4E178F08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18FA-6D0A-409E-8298-837703162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542C-B078-4FEF-8AA3-B914849A6B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5B56-A9BF-416D-A80B-D18F2F5F3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3193-1598-4152-A896-28D17BF78B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CAE5-24F9-4C35-B931-BC3C81E2A2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A947-610B-4329-B709-AA935A4E0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AC1C-46D0-4D25-9094-14010BC99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EB44-1A8D-4A33-8980-6107B89C3E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12A5-D7BD-4710-A4CB-71DEBD0785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F752-2274-4E1F-8C00-874027433F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B76F-27B5-4E17-AFCF-4B63C80DE3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CDB9-F68B-4441-B542-0D04235937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946E-EF71-42B5-B93B-72334A82F8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3F00-BF73-4A4C-BE71-C2BFE33EFA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AF78-8145-421C-BDF7-74C4492F28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F2B9-6404-4EE6-AF24-AF6CFBF0A2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C77A-78EA-4C69-8FC2-5DA64E070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8D8D-ECF5-49A3-BA66-2D0E046D2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286A-0F64-4A98-804E-B9A9AC2CF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FA2B-77C8-4F28-9A00-CBBC29511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EC0C-75AA-421D-8D67-8BF0ECB10F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4643-1341-40C0-B383-FAFF0DFBC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DC5B-72CE-4C0D-8087-8BAFE3C427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4570-402C-4E3B-9528-44058C227A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7820-5537-4519-8AB8-A2DDF5CB03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7A20-3ECC-467C-B692-B092DA8C71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9B3-C3CB-4067-873E-D22123436F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6CB6-2CC4-4941-BFB5-52EB87F339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EF6F-C458-44C3-B0DD-4BA3261535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0962-A851-45E8-B0D6-084E7A5C6E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7FB2-8A6C-4546-9F8C-F48E5EE442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0B97-61B6-48E3-BEBA-877356A68F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4C9A-B539-4D16-82BD-293C080B23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B356-9ABD-4402-B756-DF5D55FA52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BACB-350B-462D-AE9B-2DC820896E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1886040" cy="5428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3243240" y="2943360"/>
            <a:ext cx="2390760" cy="57132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2503440" y="3606840"/>
            <a:ext cx="3800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6739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91280" cy="1838160"/>
          </a:xfrm>
          <a:prstGeom prst="rect">
            <a:avLst/>
          </a:prstGeom>
          <a:ln w="0">
            <a:noFill/>
          </a:ln>
        </p:spPr>
      </p:pic>
      <p:pic>
        <p:nvPicPr>
          <p:cNvPr id="1472" name="图片 116740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5943600" cy="1876320"/>
          </a:xfrm>
          <a:prstGeom prst="rect">
            <a:avLst/>
          </a:prstGeom>
          <a:ln w="0">
            <a:noFill/>
          </a:ln>
        </p:spPr>
      </p:pic>
      <p:pic>
        <p:nvPicPr>
          <p:cNvPr id="1473" name="图片 116741" descr=""/>
          <p:cNvPicPr/>
          <p:nvPr/>
        </p:nvPicPr>
        <p:blipFill>
          <a:blip r:embed="rId3"/>
          <a:stretch/>
        </p:blipFill>
        <p:spPr>
          <a:xfrm>
            <a:off x="541440" y="4273560"/>
            <a:ext cx="7953120" cy="79992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116742" descr=""/>
          <p:cNvPicPr/>
          <p:nvPr/>
        </p:nvPicPr>
        <p:blipFill>
          <a:blip r:embed="rId4"/>
          <a:stretch/>
        </p:blipFill>
        <p:spPr>
          <a:xfrm>
            <a:off x="1042920" y="5084640"/>
            <a:ext cx="6581880" cy="162900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6743"/>
          <p:cNvSpPr/>
          <p:nvPr/>
        </p:nvSpPr>
        <p:spPr>
          <a:xfrm>
            <a:off x="7662960" y="2163600"/>
            <a:ext cx="5014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6744"/>
          <p:cNvSpPr/>
          <p:nvPr/>
        </p:nvSpPr>
        <p:spPr>
          <a:xfrm>
            <a:off x="7667640" y="4724280"/>
            <a:ext cx="5014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15713" descr=""/>
          <p:cNvPicPr/>
          <p:nvPr/>
        </p:nvPicPr>
        <p:blipFill>
          <a:blip r:embed="rId1"/>
          <a:stretch/>
        </p:blipFill>
        <p:spPr>
          <a:xfrm>
            <a:off x="585720" y="1042920"/>
            <a:ext cx="7972560" cy="477216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15714"/>
          <p:cNvSpPr/>
          <p:nvPr/>
        </p:nvSpPr>
        <p:spPr>
          <a:xfrm>
            <a:off x="7748640" y="1535040"/>
            <a:ext cx="5014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4689" descr=""/>
          <p:cNvPicPr/>
          <p:nvPr/>
        </p:nvPicPr>
        <p:blipFill>
          <a:blip r:embed="rId1"/>
          <a:stretch/>
        </p:blipFill>
        <p:spPr>
          <a:xfrm>
            <a:off x="571680" y="1176480"/>
            <a:ext cx="8001000" cy="450504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4690"/>
          <p:cNvSpPr/>
          <p:nvPr/>
        </p:nvSpPr>
        <p:spPr>
          <a:xfrm>
            <a:off x="5634000" y="1620720"/>
            <a:ext cx="28735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4691"/>
          <p:cNvSpPr/>
          <p:nvPr/>
        </p:nvSpPr>
        <p:spPr>
          <a:xfrm>
            <a:off x="1692360" y="2060640"/>
            <a:ext cx="11588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4692"/>
          <p:cNvSpPr/>
          <p:nvPr/>
        </p:nvSpPr>
        <p:spPr>
          <a:xfrm>
            <a:off x="3203640" y="2997360"/>
            <a:ext cx="432108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4693"/>
          <p:cNvSpPr/>
          <p:nvPr/>
        </p:nvSpPr>
        <p:spPr>
          <a:xfrm>
            <a:off x="6877080" y="3429000"/>
            <a:ext cx="169236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4694"/>
          <p:cNvSpPr/>
          <p:nvPr/>
        </p:nvSpPr>
        <p:spPr>
          <a:xfrm>
            <a:off x="1730520" y="3882960"/>
            <a:ext cx="6253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4695"/>
          <p:cNvSpPr/>
          <p:nvPr/>
        </p:nvSpPr>
        <p:spPr>
          <a:xfrm>
            <a:off x="5435640" y="4346640"/>
            <a:ext cx="25970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4696"/>
          <p:cNvSpPr/>
          <p:nvPr/>
        </p:nvSpPr>
        <p:spPr>
          <a:xfrm>
            <a:off x="7667640" y="4797360"/>
            <a:ext cx="10447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4697"/>
          <p:cNvSpPr/>
          <p:nvPr/>
        </p:nvSpPr>
        <p:spPr>
          <a:xfrm>
            <a:off x="1692360" y="5229360"/>
            <a:ext cx="149220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3665" descr=""/>
          <p:cNvPicPr/>
          <p:nvPr/>
        </p:nvPicPr>
        <p:blipFill>
          <a:blip r:embed="rId1"/>
          <a:stretch/>
        </p:blipFill>
        <p:spPr>
          <a:xfrm>
            <a:off x="557280" y="1090440"/>
            <a:ext cx="8029440" cy="467712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3666"/>
          <p:cNvSpPr/>
          <p:nvPr/>
        </p:nvSpPr>
        <p:spPr>
          <a:xfrm>
            <a:off x="5734080" y="3067200"/>
            <a:ext cx="88272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3667"/>
          <p:cNvSpPr/>
          <p:nvPr/>
        </p:nvSpPr>
        <p:spPr>
          <a:xfrm>
            <a:off x="6638760" y="4859280"/>
            <a:ext cx="18925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3668"/>
          <p:cNvSpPr/>
          <p:nvPr/>
        </p:nvSpPr>
        <p:spPr>
          <a:xfrm>
            <a:off x="1643040" y="5310360"/>
            <a:ext cx="638820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12641" descr=""/>
          <p:cNvPicPr/>
          <p:nvPr/>
        </p:nvPicPr>
        <p:blipFill>
          <a:blip r:embed="rId1"/>
          <a:stretch/>
        </p:blipFill>
        <p:spPr>
          <a:xfrm>
            <a:off x="905040" y="1276200"/>
            <a:ext cx="7333920" cy="430560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12642"/>
          <p:cNvSpPr/>
          <p:nvPr/>
        </p:nvSpPr>
        <p:spPr>
          <a:xfrm>
            <a:off x="6524640" y="1257480"/>
            <a:ext cx="127332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2643"/>
          <p:cNvSpPr/>
          <p:nvPr/>
        </p:nvSpPr>
        <p:spPr>
          <a:xfrm>
            <a:off x="2340000" y="1719360"/>
            <a:ext cx="228276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2644"/>
          <p:cNvSpPr/>
          <p:nvPr/>
        </p:nvSpPr>
        <p:spPr>
          <a:xfrm>
            <a:off x="1979640" y="3068640"/>
            <a:ext cx="37306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2645"/>
          <p:cNvSpPr/>
          <p:nvPr/>
        </p:nvSpPr>
        <p:spPr>
          <a:xfrm>
            <a:off x="1870200" y="3529080"/>
            <a:ext cx="642600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2646"/>
          <p:cNvSpPr/>
          <p:nvPr/>
        </p:nvSpPr>
        <p:spPr>
          <a:xfrm>
            <a:off x="1695600" y="3981600"/>
            <a:ext cx="88236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11161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924360" cy="990720"/>
          </a:xfrm>
          <a:prstGeom prst="rect">
            <a:avLst/>
          </a:prstGeom>
          <a:ln w="0">
            <a:noFill/>
          </a:ln>
        </p:spPr>
      </p:pic>
      <p:pic>
        <p:nvPicPr>
          <p:cNvPr id="1499" name="图片 111618" descr=""/>
          <p:cNvPicPr/>
          <p:nvPr/>
        </p:nvPicPr>
        <p:blipFill>
          <a:blip r:embed="rId2"/>
          <a:stretch/>
        </p:blipFill>
        <p:spPr>
          <a:xfrm>
            <a:off x="500040" y="1805040"/>
            <a:ext cx="6067440" cy="428400"/>
          </a:xfrm>
          <a:prstGeom prst="rect">
            <a:avLst/>
          </a:prstGeom>
          <a:ln w="0">
            <a:noFill/>
          </a:ln>
        </p:spPr>
      </p:pic>
      <p:pic>
        <p:nvPicPr>
          <p:cNvPr id="1500" name="图片 111619" descr=""/>
          <p:cNvPicPr/>
          <p:nvPr/>
        </p:nvPicPr>
        <p:blipFill>
          <a:blip r:embed="rId3"/>
          <a:stretch/>
        </p:blipFill>
        <p:spPr>
          <a:xfrm>
            <a:off x="520560" y="2247840"/>
            <a:ext cx="5229360" cy="390600"/>
          </a:xfrm>
          <a:prstGeom prst="rect">
            <a:avLst/>
          </a:prstGeom>
          <a:ln w="0">
            <a:noFill/>
          </a:ln>
        </p:spPr>
      </p:pic>
      <p:pic>
        <p:nvPicPr>
          <p:cNvPr id="1501" name="图片 111620" descr=""/>
          <p:cNvPicPr/>
          <p:nvPr/>
        </p:nvPicPr>
        <p:blipFill>
          <a:blip r:embed="rId4"/>
          <a:stretch/>
        </p:blipFill>
        <p:spPr>
          <a:xfrm>
            <a:off x="530280" y="2781360"/>
            <a:ext cx="6353280" cy="685800"/>
          </a:xfrm>
          <a:prstGeom prst="rect">
            <a:avLst/>
          </a:prstGeom>
          <a:ln w="0">
            <a:noFill/>
          </a:ln>
        </p:spPr>
      </p:pic>
      <p:pic>
        <p:nvPicPr>
          <p:cNvPr id="1502" name="图片 111621" descr=""/>
          <p:cNvPicPr/>
          <p:nvPr/>
        </p:nvPicPr>
        <p:blipFill>
          <a:blip r:embed="rId5"/>
          <a:stretch/>
        </p:blipFill>
        <p:spPr>
          <a:xfrm>
            <a:off x="611280" y="3746520"/>
            <a:ext cx="5981760" cy="704880"/>
          </a:xfrm>
          <a:prstGeom prst="rect">
            <a:avLst/>
          </a:prstGeom>
          <a:ln w="0">
            <a:noFill/>
          </a:ln>
        </p:spPr>
      </p:pic>
      <p:pic>
        <p:nvPicPr>
          <p:cNvPr id="1503" name="图片 111622" descr=""/>
          <p:cNvPicPr/>
          <p:nvPr/>
        </p:nvPicPr>
        <p:blipFill>
          <a:blip r:embed="rId6"/>
          <a:stretch/>
        </p:blipFill>
        <p:spPr>
          <a:xfrm>
            <a:off x="627120" y="4730760"/>
            <a:ext cx="28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04" name="图片 111623" descr=""/>
          <p:cNvPicPr/>
          <p:nvPr/>
        </p:nvPicPr>
        <p:blipFill>
          <a:blip r:embed="rId7"/>
          <a:stretch/>
        </p:blipFill>
        <p:spPr>
          <a:xfrm>
            <a:off x="1806480" y="2765520"/>
            <a:ext cx="1724040" cy="733320"/>
          </a:xfrm>
          <a:prstGeom prst="rect">
            <a:avLst/>
          </a:prstGeom>
          <a:ln w="0">
            <a:noFill/>
          </a:ln>
        </p:spPr>
      </p:pic>
      <p:pic>
        <p:nvPicPr>
          <p:cNvPr id="1505" name="图片 111624" descr=""/>
          <p:cNvPicPr/>
          <p:nvPr/>
        </p:nvPicPr>
        <p:blipFill>
          <a:blip r:embed="rId8"/>
          <a:stretch/>
        </p:blipFill>
        <p:spPr>
          <a:xfrm>
            <a:off x="5013360" y="2762280"/>
            <a:ext cx="1724040" cy="733320"/>
          </a:xfrm>
          <a:prstGeom prst="rect">
            <a:avLst/>
          </a:prstGeom>
          <a:ln w="0">
            <a:noFill/>
          </a:ln>
        </p:spPr>
      </p:pic>
      <p:pic>
        <p:nvPicPr>
          <p:cNvPr id="1506" name="图片 111625" descr=""/>
          <p:cNvPicPr/>
          <p:nvPr/>
        </p:nvPicPr>
        <p:blipFill>
          <a:blip r:embed="rId9"/>
          <a:stretch/>
        </p:blipFill>
        <p:spPr>
          <a:xfrm>
            <a:off x="1787400" y="3726000"/>
            <a:ext cx="1724040" cy="733320"/>
          </a:xfrm>
          <a:prstGeom prst="rect">
            <a:avLst/>
          </a:prstGeom>
          <a:ln w="0">
            <a:noFill/>
          </a:ln>
        </p:spPr>
      </p:pic>
      <p:pic>
        <p:nvPicPr>
          <p:cNvPr id="1507" name="图片 111626" descr=""/>
          <p:cNvPicPr/>
          <p:nvPr/>
        </p:nvPicPr>
        <p:blipFill>
          <a:blip r:embed="rId10"/>
          <a:stretch/>
        </p:blipFill>
        <p:spPr>
          <a:xfrm>
            <a:off x="4756320" y="3722760"/>
            <a:ext cx="1723680" cy="733320"/>
          </a:xfrm>
          <a:prstGeom prst="rect">
            <a:avLst/>
          </a:prstGeom>
          <a:ln w="0">
            <a:noFill/>
          </a:ln>
        </p:spPr>
      </p:pic>
      <p:pic>
        <p:nvPicPr>
          <p:cNvPr id="1508" name="图片 111627" descr=""/>
          <p:cNvPicPr/>
          <p:nvPr/>
        </p:nvPicPr>
        <p:blipFill>
          <a:blip r:embed="rId11"/>
          <a:stretch/>
        </p:blipFill>
        <p:spPr>
          <a:xfrm>
            <a:off x="1635120" y="4686480"/>
            <a:ext cx="1724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30" descr=""/>
          <p:cNvPicPr/>
          <p:nvPr/>
        </p:nvPicPr>
        <p:blipFill>
          <a:blip r:embed="rId1"/>
          <a:stretch/>
        </p:blipFill>
        <p:spPr>
          <a:xfrm>
            <a:off x="376200" y="1057320"/>
            <a:ext cx="8391600" cy="474336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1"/>
          <p:cNvSpPr/>
          <p:nvPr/>
        </p:nvSpPr>
        <p:spPr>
          <a:xfrm>
            <a:off x="4770360" y="2181240"/>
            <a:ext cx="2908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1332000" y="2565360"/>
            <a:ext cx="29080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6867360" y="2622600"/>
            <a:ext cx="503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1547640" y="3025800"/>
            <a:ext cx="9129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5"/>
          <p:cNvSpPr/>
          <p:nvPr/>
        </p:nvSpPr>
        <p:spPr>
          <a:xfrm>
            <a:off x="3564000" y="3016080"/>
            <a:ext cx="503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6"/>
          <p:cNvSpPr/>
          <p:nvPr/>
        </p:nvSpPr>
        <p:spPr>
          <a:xfrm>
            <a:off x="1258920" y="3429000"/>
            <a:ext cx="9129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7"/>
          <p:cNvSpPr/>
          <p:nvPr/>
        </p:nvSpPr>
        <p:spPr>
          <a:xfrm>
            <a:off x="7164360" y="3841920"/>
            <a:ext cx="503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8"/>
          <p:cNvSpPr/>
          <p:nvPr/>
        </p:nvSpPr>
        <p:spPr>
          <a:xfrm>
            <a:off x="2268360" y="4249800"/>
            <a:ext cx="503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39"/>
          <p:cNvSpPr/>
          <p:nvPr/>
        </p:nvSpPr>
        <p:spPr>
          <a:xfrm>
            <a:off x="5373720" y="4240080"/>
            <a:ext cx="14270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0"/>
          <p:cNvSpPr/>
          <p:nvPr/>
        </p:nvSpPr>
        <p:spPr>
          <a:xfrm>
            <a:off x="8397720" y="4230720"/>
            <a:ext cx="503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4941"/>
          <p:cNvSpPr/>
          <p:nvPr/>
        </p:nvSpPr>
        <p:spPr>
          <a:xfrm>
            <a:off x="1116000" y="4653000"/>
            <a:ext cx="8460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4942"/>
          <p:cNvSpPr/>
          <p:nvPr/>
        </p:nvSpPr>
        <p:spPr>
          <a:xfrm>
            <a:off x="3103560" y="5041800"/>
            <a:ext cx="846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4943"/>
          <p:cNvSpPr/>
          <p:nvPr/>
        </p:nvSpPr>
        <p:spPr>
          <a:xfrm>
            <a:off x="2916360" y="5445000"/>
            <a:ext cx="1198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4944"/>
          <p:cNvSpPr/>
          <p:nvPr/>
        </p:nvSpPr>
        <p:spPr>
          <a:xfrm>
            <a:off x="4932360" y="5445000"/>
            <a:ext cx="503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3905" descr=""/>
          <p:cNvPicPr/>
          <p:nvPr/>
        </p:nvPicPr>
        <p:blipFill>
          <a:blip r:embed="rId1"/>
          <a:stretch/>
        </p:blipFill>
        <p:spPr>
          <a:xfrm>
            <a:off x="399960" y="2043000"/>
            <a:ext cx="8344080" cy="27720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3906"/>
          <p:cNvSpPr/>
          <p:nvPr/>
        </p:nvSpPr>
        <p:spPr>
          <a:xfrm>
            <a:off x="7334280" y="2451240"/>
            <a:ext cx="1125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3907"/>
          <p:cNvSpPr/>
          <p:nvPr/>
        </p:nvSpPr>
        <p:spPr>
          <a:xfrm>
            <a:off x="2484360" y="2852640"/>
            <a:ext cx="647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3908"/>
          <p:cNvSpPr/>
          <p:nvPr/>
        </p:nvSpPr>
        <p:spPr>
          <a:xfrm>
            <a:off x="5148360" y="3260880"/>
            <a:ext cx="1125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3909"/>
          <p:cNvSpPr/>
          <p:nvPr/>
        </p:nvSpPr>
        <p:spPr>
          <a:xfrm>
            <a:off x="1476360" y="3664080"/>
            <a:ext cx="2116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3910"/>
          <p:cNvSpPr/>
          <p:nvPr/>
        </p:nvSpPr>
        <p:spPr>
          <a:xfrm>
            <a:off x="6697800" y="4076640"/>
            <a:ext cx="1125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3911"/>
          <p:cNvSpPr/>
          <p:nvPr/>
        </p:nvSpPr>
        <p:spPr>
          <a:xfrm>
            <a:off x="1258920" y="4470480"/>
            <a:ext cx="1125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22881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53440" cy="476244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22882"/>
          <p:cNvSpPr/>
          <p:nvPr/>
        </p:nvSpPr>
        <p:spPr>
          <a:xfrm>
            <a:off x="8177040" y="2421000"/>
            <a:ext cx="360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2883"/>
          <p:cNvSpPr/>
          <p:nvPr/>
        </p:nvSpPr>
        <p:spPr>
          <a:xfrm>
            <a:off x="8172360" y="3789360"/>
            <a:ext cx="360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21857" descr=""/>
          <p:cNvPicPr/>
          <p:nvPr/>
        </p:nvPicPr>
        <p:blipFill>
          <a:blip r:embed="rId1"/>
          <a:stretch/>
        </p:blipFill>
        <p:spPr>
          <a:xfrm>
            <a:off x="390600" y="1614600"/>
            <a:ext cx="8362800" cy="362880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21858"/>
          <p:cNvSpPr/>
          <p:nvPr/>
        </p:nvSpPr>
        <p:spPr>
          <a:xfrm>
            <a:off x="8196120" y="2182680"/>
            <a:ext cx="36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1859"/>
          <p:cNvSpPr/>
          <p:nvPr/>
        </p:nvSpPr>
        <p:spPr>
          <a:xfrm>
            <a:off x="8172360" y="4149720"/>
            <a:ext cx="360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20833" descr=""/>
          <p:cNvPicPr/>
          <p:nvPr/>
        </p:nvPicPr>
        <p:blipFill>
          <a:blip r:embed="rId1"/>
          <a:stretch/>
        </p:blipFill>
        <p:spPr>
          <a:xfrm>
            <a:off x="547560" y="1047600"/>
            <a:ext cx="8048880" cy="47628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0834"/>
          <p:cNvSpPr/>
          <p:nvPr/>
        </p:nvSpPr>
        <p:spPr>
          <a:xfrm>
            <a:off x="7815240" y="2630520"/>
            <a:ext cx="5018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9809" descr=""/>
          <p:cNvPicPr/>
          <p:nvPr/>
        </p:nvPicPr>
        <p:blipFill>
          <a:blip r:embed="rId1"/>
          <a:stretch/>
        </p:blipFill>
        <p:spPr>
          <a:xfrm>
            <a:off x="528480" y="1733400"/>
            <a:ext cx="8087040" cy="33912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9810"/>
          <p:cNvSpPr/>
          <p:nvPr/>
        </p:nvSpPr>
        <p:spPr>
          <a:xfrm>
            <a:off x="7786800" y="1744560"/>
            <a:ext cx="5014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8785" descr=""/>
          <p:cNvPicPr/>
          <p:nvPr/>
        </p:nvPicPr>
        <p:blipFill>
          <a:blip r:embed="rId1"/>
          <a:stretch/>
        </p:blipFill>
        <p:spPr>
          <a:xfrm>
            <a:off x="561960" y="1647720"/>
            <a:ext cx="8020080" cy="356256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8786"/>
          <p:cNvSpPr/>
          <p:nvPr/>
        </p:nvSpPr>
        <p:spPr>
          <a:xfrm>
            <a:off x="7812000" y="2205000"/>
            <a:ext cx="5018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7761" descr=""/>
          <p:cNvPicPr/>
          <p:nvPr/>
        </p:nvPicPr>
        <p:blipFill>
          <a:blip r:embed="rId1"/>
          <a:stretch/>
        </p:blipFill>
        <p:spPr>
          <a:xfrm>
            <a:off x="566640" y="957240"/>
            <a:ext cx="8010720" cy="494352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7762"/>
          <p:cNvSpPr/>
          <p:nvPr/>
        </p:nvSpPr>
        <p:spPr>
          <a:xfrm>
            <a:off x="7758000" y="1468440"/>
            <a:ext cx="5018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1:44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